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2.jpeg" ContentType="image/jpeg"/>
  <Override PartName="/ppt/media/image39.png" ContentType="image/png"/>
  <Override PartName="/ppt/media/image8.png" ContentType="image/png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irhan_B._Sirhan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com/states.do?parentId=19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history.com/states.do?parentId=19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year 1968 is considered one of the most turbulent, and pivotal, twelve mon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iods in American history. This single year was a flashpoint for many of the socia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litical, and cultural transformations for which the overall decade of the 1960s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nown. During these years, the United States became entrenched in an unpopular war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etnam abroad, while unrest, experimentation, violence, and outspokenness rag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oughout the nation. The Civil Rights Movement gained momentum, sit-ins and ri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came commonplace, leaders were assassinated on a seemingly regular basis, and so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erimentation and psychedelic music became the rage in San Francisco and elsewhe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y consider these years divisive, others shameful, yet some believe they w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cessary to galvanize change in Amer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lowly building upheaval of the 1960s reached an apex in 1968. The te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at had been increasingly brewing over the previous years finally came to a hea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loding across 365 days of violence, uprising, and mourning. Robert Kennedy and 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tin Luther King Jr. were assassinated, riots broke out at the Democratic 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, and the media coverage of the Tet Offensive exposed the grues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derbelly of the Vietnam War. Together, these events signaled the powerful cultura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conomic, and social changes that still reverberate tod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he History Channel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ary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968 with 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Earl Ray &amp; 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irhan B. Sirh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olk, rock, acid-r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us.history.wisc.edu/hist102/photos/html/1071.html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Pilule_contraceptive.jpg" TargetMode="Externa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hyperlink" Target="http://upload.wikimedia.org/wikipedia/en/b/b7/Woodstock_poster.jpg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ssential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principal causes &amp; effects of the counterculture movements of the 1960s &amp; 19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does it mean to be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“hippie?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is the “establishmen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1968: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Year of Turmoil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6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68 was one of the most turbulent years in U.S.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tin Luther King Jr. &amp; Robert Kennedy were assassin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ots broke out at the Democratic National Con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t Offensive showed that the USA was not winning the Vietnam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testing the Vietnam W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st dramatic focus of youthful rebellion was Vietn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ly led by college students who escaped the dra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protested the draft, military research on college campuses, &amp; disproportionate use of black &amp; Hispanic sold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s got stronger as fighting intensified in Vietnam in 19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781680" y="0"/>
            <a:ext cx="236232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Troop Levels in Vietn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26" name="Picture 5" descr="DIVI653"/>
          <p:cNvPicPr/>
          <p:nvPr/>
        </p:nvPicPr>
        <p:blipFill>
          <a:blip r:embed="rId1"/>
          <a:stretch/>
        </p:blipFill>
        <p:spPr>
          <a:xfrm>
            <a:off x="228600" y="228600"/>
            <a:ext cx="624528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etnam in 196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60912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1968, the Vietcong launched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et Offens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gainst U.S. forces in South Vietn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ttack was contrary to media reports that the U.S. was winning the Vietnam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ttack led LBJ to believe that Vietnam could not be w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1968, LBJ began discussions to seek a truce &amp; announced that he would not seek re-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94360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t Offensive, 196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2" name="Picture 5" descr="20424"/>
          <p:cNvPicPr/>
          <p:nvPr/>
        </p:nvPicPr>
        <p:blipFill>
          <a:blip r:embed="rId1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Country Joe &amp; the Fish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6" descr="Image:Vietnamdem.jpg"/>
          <p:cNvPicPr/>
          <p:nvPr/>
        </p:nvPicPr>
        <p:blipFill>
          <a:blip r:embed="rId2"/>
          <a:srcRect l="7568" t="0" r="9165" b="49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8" descr="1968-vietnam-protesters"/>
          <p:cNvPicPr/>
          <p:nvPr/>
        </p:nvPicPr>
        <p:blipFill>
          <a:blip r:embed="rId3"/>
          <a:stretch/>
        </p:blipFill>
        <p:spPr>
          <a:xfrm>
            <a:off x="4572000" y="304920"/>
            <a:ext cx="42260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6" name="Picture 19" descr="flower_power"/>
          <p:cNvPicPr/>
          <p:nvPr/>
        </p:nvPicPr>
        <p:blipFill>
          <a:blip r:embed="rId4"/>
          <a:stretch/>
        </p:blipFill>
        <p:spPr>
          <a:xfrm>
            <a:off x="380880" y="1523880"/>
            <a:ext cx="5715000" cy="436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7" name="Picture 20" descr="viet-show18"/>
          <p:cNvPicPr/>
          <p:nvPr/>
        </p:nvPicPr>
        <p:blipFill>
          <a:blip r:embed="rId5"/>
          <a:srcRect l="0" t="0" r="8281" b="0"/>
          <a:stretch/>
        </p:blipFill>
        <p:spPr>
          <a:xfrm>
            <a:off x="0" y="-152280"/>
            <a:ext cx="9148680" cy="701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0.0)">
                                      <p:cBhvr>
                                        <p:cTn id="297" dur="191349" fill="hold"/>
                                        <p:tgtEl>
                                          <p:spTgt spid="6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assinations in 196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4197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1968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rtin Luther 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s assassinated in Memphis &amp; race riots broke out in over 100 c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1968, leading Democratic presidential candidate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obert Kenned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s shot during the California pri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Source: National Archives"/>
          <p:cNvPicPr/>
          <p:nvPr/>
        </p:nvPicPr>
        <p:blipFill>
          <a:blip r:embed="rId1"/>
          <a:srcRect l="0" t="0" r="27273" b="0"/>
          <a:stretch/>
        </p:blipFill>
        <p:spPr>
          <a:xfrm>
            <a:off x="4343400" y="1143000"/>
            <a:ext cx="4800600" cy="51483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MLK Assassination"/>
          <p:cNvPicPr/>
          <p:nvPr/>
        </p:nvPicPr>
        <p:blipFill>
          <a:blip r:embed="rId2"/>
          <a:srcRect l="0" t="1125" r="0" b="6971"/>
          <a:stretch/>
        </p:blipFill>
        <p:spPr>
          <a:xfrm>
            <a:off x="0" y="906480"/>
            <a:ext cx="9144000" cy="595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3" name="Picture 7" descr="Damage was Selectiv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8"/>
          <p:cNvSpPr/>
          <p:nvPr/>
        </p:nvSpPr>
        <p:spPr>
          <a:xfrm>
            <a:off x="228600" y="79200"/>
            <a:ext cx="3352680" cy="873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lack-Owne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4267080" y="320760"/>
            <a:ext cx="4496040" cy="483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hite-Owne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" descr="Robert Kennedy in downtown Johannesburg, 1966"/>
          <p:cNvPicPr/>
          <p:nvPr/>
        </p:nvPicPr>
        <p:blipFill>
          <a:blip r:embed="rId4"/>
          <a:srcRect l="8219" t="0" r="10961" b="0"/>
          <a:stretch/>
        </p:blipFill>
        <p:spPr>
          <a:xfrm>
            <a:off x="0" y="1295280"/>
            <a:ext cx="4645080" cy="52578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1" descr="mlk_rfk63"/>
          <p:cNvPicPr/>
          <p:nvPr/>
        </p:nvPicPr>
        <p:blipFill>
          <a:blip r:embed="rId5"/>
          <a:srcRect l="0" t="0" r="0" b="919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1968 Democratic Conven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ithdrawal of LBJ &amp; death of RFK, left 2 candidates for the Democratic nomination in 1968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N Senat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ugene McCart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P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bert Humph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V showed angry protestors &amp; police fight outside the convention when Humphrey was nomin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"/>
          <p:cNvSpPr/>
          <p:nvPr/>
        </p:nvSpPr>
        <p:spPr>
          <a:xfrm>
            <a:off x="380880" y="3809880"/>
            <a:ext cx="8305920" cy="1067040"/>
          </a:xfrm>
          <a:prstGeom prst="wedgeRectCallout">
            <a:avLst>
              <a:gd name="adj1" fmla="val 34995"/>
              <a:gd name="adj2" fmla="val -92560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alistic &amp; anti-war—supported by upper-middle class whites &amp; college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8"/>
          <p:cNvSpPr/>
          <p:nvPr/>
        </p:nvSpPr>
        <p:spPr>
          <a:xfrm>
            <a:off x="304920" y="5486400"/>
            <a:ext cx="8645400" cy="1066680"/>
          </a:xfrm>
          <a:prstGeom prst="wedgeRectCallout">
            <a:avLst>
              <a:gd name="adj1" fmla="val 6865"/>
              <a:gd name="adj2" fmla="val -158185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uman-style Cold Warrior—supported by Democratic party leaders; Did not campa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9" descr="Rfk"/>
          <p:cNvPicPr/>
          <p:nvPr/>
        </p:nvPicPr>
        <p:blipFill>
          <a:blip r:embed="rId1"/>
          <a:stretch/>
        </p:blipFill>
        <p:spPr>
          <a:xfrm>
            <a:off x="76320" y="0"/>
            <a:ext cx="2238120" cy="2857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McCarthy, Eugene"/>
          <p:cNvPicPr/>
          <p:nvPr/>
        </p:nvPicPr>
        <p:blipFill>
          <a:blip r:embed="rId2"/>
          <a:stretch/>
        </p:blipFill>
        <p:spPr>
          <a:xfrm>
            <a:off x="0" y="0"/>
            <a:ext cx="3505320" cy="344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6" name="Picture 11" descr="Humphrey, Hubert H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7760" y="0"/>
            <a:ext cx="2776320" cy="350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7" name="Picture 12" descr="James Meredith March Button"/>
          <p:cNvPicPr/>
          <p:nvPr/>
        </p:nvPicPr>
        <p:blipFill>
          <a:blip r:embed="rId5"/>
          <a:stretch/>
        </p:blipFill>
        <p:spPr>
          <a:xfrm>
            <a:off x="0" y="1600200"/>
            <a:ext cx="3124080" cy="312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7"/>
          <p:cNvSpPr/>
          <p:nvPr/>
        </p:nvSpPr>
        <p:spPr>
          <a:xfrm>
            <a:off x="0" y="2286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68 Democratic National Con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28" descr="1968-hippie-dnc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58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0" name="Picture 32" descr="1968 Democratic Convention Photo"/>
          <p:cNvPicPr/>
          <p:nvPr/>
        </p:nvPicPr>
        <p:blipFill>
          <a:blip r:embed="rId2"/>
          <a:srcRect l="0" t="21113" r="0" b="0"/>
          <a:stretch/>
        </p:blipFill>
        <p:spPr>
          <a:xfrm>
            <a:off x="3735360" y="0"/>
            <a:ext cx="540864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1" name="Picture 33" descr="1968 Democratic Convention Photo"/>
          <p:cNvPicPr/>
          <p:nvPr/>
        </p:nvPicPr>
        <p:blipFill>
          <a:blip r:embed="rId3"/>
          <a:srcRect l="9197" t="0" r="0" b="0"/>
          <a:stretch/>
        </p:blipFill>
        <p:spPr>
          <a:xfrm>
            <a:off x="0" y="0"/>
            <a:ext cx="37368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2" name="Picture 34" descr="1968-hippie-dnc2"/>
          <p:cNvPicPr/>
          <p:nvPr/>
        </p:nvPicPr>
        <p:blipFill>
          <a:blip r:embed="rId4"/>
          <a:stretch/>
        </p:blipFill>
        <p:spPr>
          <a:xfrm>
            <a:off x="228600" y="609480"/>
            <a:ext cx="8686800" cy="581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3" name="Picture 36" descr="ElectoralCollege1968-Large"/>
          <p:cNvPicPr/>
          <p:nvPr/>
        </p:nvPicPr>
        <p:blipFill>
          <a:blip r:embed="rId5">
            <a:lum bright="18000"/>
          </a:blip>
          <a:srcRect l="5279" t="0" r="0" b="0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4" name="AutoShape 37"/>
          <p:cNvSpPr/>
          <p:nvPr/>
        </p:nvSpPr>
        <p:spPr>
          <a:xfrm>
            <a:off x="0" y="5410080"/>
            <a:ext cx="9144000" cy="1447920"/>
          </a:xfrm>
          <a:prstGeom prst="wedgeRectCallout">
            <a:avLst>
              <a:gd name="adj1" fmla="val 38074"/>
              <a:gd name="adj2" fmla="val -120833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ublicans benefited from the Vietnam disaster &amp; a shattered Democratic party;    Nixon won the election as a reconci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43" descr=""/>
          <p:cNvPicPr/>
          <p:nvPr/>
        </p:nvPicPr>
        <p:blipFill>
          <a:blip r:embed="rId6"/>
          <a:srcRect l="1595" t="19752" r="40600" b="26003"/>
          <a:stretch/>
        </p:blipFill>
        <p:spPr>
          <a:xfrm>
            <a:off x="690480" y="163440"/>
            <a:ext cx="7313760" cy="514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3366"/>
                </a:solidFill>
                <a:uFillTx/>
                <a:latin typeface="Times New Roman"/>
              </a:rPr>
              <a:t>A Generation in Conflict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6000"/>
            </a:b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1965-1974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Social Protests of the 1960s &amp; 1970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"Black Power"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late 1960s, civil rights from political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dership shifted from MLK’s nonviolent protest to milita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rights began to reflect the overt embrace of black culture  &amp; pride: dashikis, afros, “dap,” rejection of “slave names,” &amp;  the “black is beautiful” mo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6"/>
          <p:cNvSpPr/>
          <p:nvPr/>
        </p:nvSpPr>
        <p:spPr>
          <a:xfrm>
            <a:off x="1981080" y="914400"/>
            <a:ext cx="5410440" cy="1028880"/>
          </a:xfrm>
          <a:prstGeom prst="wedgeRectCallout">
            <a:avLst>
              <a:gd name="adj1" fmla="val -18750"/>
              <a:gd name="adj2" fmla="val 212037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han 50% of northern blacks lived in pov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8"/>
          <p:cNvSpPr/>
          <p:nvPr/>
        </p:nvSpPr>
        <p:spPr>
          <a:xfrm>
            <a:off x="5410080" y="228600"/>
            <a:ext cx="3581640" cy="1523880"/>
          </a:xfrm>
          <a:prstGeom prst="wedgeRectCallout">
            <a:avLst>
              <a:gd name="adj1" fmla="val 17773"/>
              <a:gd name="adj2" fmla="val 21875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’m black &amp;   I’m proud!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Br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say it loud (James Brown)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c-m023"/>
          <p:cNvPicPr/>
          <p:nvPr/>
        </p:nvPicPr>
        <p:blipFill>
          <a:blip r:embed="rId2"/>
          <a:stretch/>
        </p:blipFill>
        <p:spPr>
          <a:xfrm>
            <a:off x="76320" y="0"/>
            <a:ext cx="2290680" cy="490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5" name="Picture 13" descr="Niki-giovanni"/>
          <p:cNvPicPr/>
          <p:nvPr/>
        </p:nvPicPr>
        <p:blipFill>
          <a:blip r:embed="rId3"/>
          <a:srcRect l="12625" t="20940" r="0" b="20879"/>
          <a:stretch/>
        </p:blipFill>
        <p:spPr>
          <a:xfrm>
            <a:off x="2286000" y="1143000"/>
            <a:ext cx="30542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"Black Power"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CC lead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okely Carmicha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d blacks to seize power where they outnumber wh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ed for black-controlled unions, co-ops, &amp; political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lack Panth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dicating themselves to defending blacks from police brutality &amp; serving their communit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" descr="Stokely Carmichael"/>
          <p:cNvPicPr/>
          <p:nvPr/>
        </p:nvPicPr>
        <p:blipFill>
          <a:blip r:embed="rId1"/>
          <a:stretch/>
        </p:blipFill>
        <p:spPr>
          <a:xfrm>
            <a:off x="0" y="1676520"/>
            <a:ext cx="525780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9" name="Picture 5" descr="4fc8"/>
          <p:cNvPicPr/>
          <p:nvPr/>
        </p:nvPicPr>
        <p:blipFill>
          <a:blip r:embed="rId2"/>
          <a:stretch/>
        </p:blipFill>
        <p:spPr>
          <a:xfrm>
            <a:off x="4724280" y="1676520"/>
            <a:ext cx="4419720" cy="421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0" name="AutoShape 8"/>
          <p:cNvSpPr/>
          <p:nvPr/>
        </p:nvSpPr>
        <p:spPr>
          <a:xfrm>
            <a:off x="2514600" y="76320"/>
            <a:ext cx="5715000" cy="1447560"/>
          </a:xfrm>
          <a:prstGeom prst="wedgeRectCallout">
            <a:avLst>
              <a:gd name="adj1" fmla="val 46083"/>
              <a:gd name="adj2" fmla="val 125439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litical power comes through the barrel of a gu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ey New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rown Power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xican-Americans began to advocate for their right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Raza” called for cultural awareness, voter registration, education &amp; poverty re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é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r Ch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e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ganized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at’l Farm Workers' Asso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demand better pay for pick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canos” called for &amp; won bilingu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ink Power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7617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men's Liberation movement demanded increased rights &amp;     an end to sexism in Americ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iedan’s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eminine Mystiqu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ized housewife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at’l Org of Wom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lled for equal pay, child care, rape laws, &amp; anti-abortion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qual Rights Amendmen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as revived to end sexis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7"/>
          <p:cNvSpPr/>
          <p:nvPr/>
        </p:nvSpPr>
        <p:spPr>
          <a:xfrm>
            <a:off x="304920" y="3581280"/>
            <a:ext cx="4038480" cy="990720"/>
          </a:xfrm>
          <a:prstGeom prst="wedgeRectCallout">
            <a:avLst>
              <a:gd name="adj1" fmla="val 95717"/>
              <a:gd name="adj2" fmla="val -210254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re still seen as “homemaker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8"/>
          <p:cNvSpPr/>
          <p:nvPr/>
        </p:nvSpPr>
        <p:spPr>
          <a:xfrm>
            <a:off x="152280" y="1981080"/>
            <a:ext cx="4419720" cy="1447920"/>
          </a:xfrm>
          <a:prstGeom prst="wedgeRectCallout">
            <a:avLst>
              <a:gd name="adj1" fmla="val 81643"/>
              <a:gd name="adj2" fmla="val -49342"/>
            </a:avLst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1960s, women were still employed in stereotypical job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4495680" y="3886200"/>
            <a:ext cx="4496040" cy="1371600"/>
          </a:xfrm>
          <a:prstGeom prst="wedgeRectCallout">
            <a:avLst>
              <a:gd name="adj1" fmla="val -37"/>
              <a:gd name="adj2" fmla="val -19328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 unmarried adults outnumbered married adults for the first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4648320" y="2362320"/>
            <a:ext cx="4495680" cy="1371600"/>
          </a:xfrm>
          <a:prstGeom prst="wedgeRectCallout">
            <a:avLst>
              <a:gd name="adj1" fmla="val 2754"/>
              <a:gd name="adj2" fmla="val -82175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…in most families, both parents worked out of the h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13"/>
          <p:cNvSpPr/>
          <p:nvPr/>
        </p:nvSpPr>
        <p:spPr>
          <a:xfrm>
            <a:off x="609480" y="380880"/>
            <a:ext cx="8305920" cy="1067040"/>
          </a:xfrm>
          <a:prstGeom prst="wedgeRectCallout">
            <a:avLst>
              <a:gd name="adj1" fmla="val -26814"/>
              <a:gd name="adj2" fmla="val 342560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wth of female-run small businesses helped overcome corporate “glass ceiling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1447920" y="1600200"/>
            <a:ext cx="7010280" cy="1066680"/>
          </a:xfrm>
          <a:prstGeom prst="wedgeRectCallout">
            <a:avLst>
              <a:gd name="adj1" fmla="val -9736"/>
              <a:gd name="adj2" fmla="val 282736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73, the Supreme Court upheld abortion rights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oe v W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6" descr="Image:Pilule contracepti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1295280"/>
            <a:ext cx="5029200" cy="31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6" name="Text Box 17"/>
          <p:cNvSpPr/>
          <p:nvPr/>
        </p:nvSpPr>
        <p:spPr>
          <a:xfrm>
            <a:off x="5257800" y="1979640"/>
            <a:ext cx="3657600" cy="1410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late 1960s, the “pill” became widely avail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ate Voting on the ER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98" name="Picture 4" descr="DIVI7233691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60958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8"/>
          <p:cNvSpPr/>
          <p:nvPr/>
        </p:nvSpPr>
        <p:spPr>
          <a:xfrm>
            <a:off x="1600200" y="76320"/>
            <a:ext cx="6248520" cy="9716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RA by fell 3 states shy of the ¾ needed for rat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inbow Power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ay Liberation movement started in 1969 after the Stonewall Riot in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ay Liberation Front demanded end to discrimination &amp; rallied gays to “come ou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merican Psychiatry Assoc ended its classification of  homosexuality as a dise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½ of all states changed their sodomy &amp; employment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 Power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merican Indian movement sought to service its communities &amp; regain lost la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s of All Tribes” took Alcatraz Island in 1969 &amp; called attention to th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il of Broken Tears” in 1972 &amp; “Long March” in 1978 helped lead to the return of lands across the country to trib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4"/>
          <p:cNvSpPr/>
          <p:nvPr/>
        </p:nvSpPr>
        <p:spPr>
          <a:xfrm>
            <a:off x="380880" y="533520"/>
            <a:ext cx="8534520" cy="990360"/>
          </a:xfrm>
          <a:prstGeom prst="wedgeRectCallout">
            <a:avLst>
              <a:gd name="adj1" fmla="val -10509"/>
              <a:gd name="adj2" fmla="val 341347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ed in marches on the Bureau of Indian Affairs in D.C. &amp; Wounded Knee in S.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5"/>
          <p:cNvSpPr/>
          <p:nvPr/>
        </p:nvSpPr>
        <p:spPr>
          <a:xfrm>
            <a:off x="685800" y="1752480"/>
            <a:ext cx="8001000" cy="1067040"/>
          </a:xfrm>
          <a:prstGeom prst="wedgeRectCallout">
            <a:avLst>
              <a:gd name="adj1" fmla="val -23569"/>
              <a:gd name="adj2" fmla="val 257439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5-month protest from California to D.C. to protest past U.S. treaty viol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9" descr="Alcatraz-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0" descr="main story photo goes here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14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10" name="Picture 11" descr="a7_na_slideshow4"/>
          <p:cNvPicPr/>
          <p:nvPr/>
        </p:nvPicPr>
        <p:blipFill>
          <a:blip r:embed="rId3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ellow Power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sian-American movement began with the formation of the Asian American Political Allian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ed U.S. involvement in Vietnam &amp; use of term  “gook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ed for &amp; received Asian-American studies in colleges, health services in Asian communities, &amp; reparations for interned Japanese-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Decade of Protest: 1965-197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cade from 1965 to 1974 was marked by protest due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lation of the Vietnam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tack on middle-class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d college enroll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itial liberal protests began on college campuses but soon inspired other, national protes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143000" y="6248520"/>
            <a:ext cx="3733920" cy="533160"/>
          </a:xfrm>
          <a:prstGeom prst="wedgeRectCallout">
            <a:avLst>
              <a:gd name="adj1" fmla="val 102125"/>
              <a:gd name="adj2" fmla="val -217856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ive-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5105520" y="6248520"/>
            <a:ext cx="1676160" cy="533160"/>
          </a:xfrm>
          <a:prstGeom prst="wedgeRectCallout">
            <a:avLst>
              <a:gd name="adj1" fmla="val 62310"/>
              <a:gd name="adj2" fmla="val -224703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6934320" y="6248520"/>
            <a:ext cx="1676160" cy="533160"/>
          </a:xfrm>
          <a:prstGeom prst="wedgeRectCallout">
            <a:avLst>
              <a:gd name="adj1" fmla="val -24240"/>
              <a:gd name="adj2" fmla="val -230652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p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876920" y="5638680"/>
            <a:ext cx="4038480" cy="533520"/>
          </a:xfrm>
          <a:prstGeom prst="wedgeRectCallout">
            <a:avLst>
              <a:gd name="adj1" fmla="val 6643"/>
              <a:gd name="adj2" fmla="val -1053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xican-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1"/>
          <p:cNvSpPr/>
          <p:nvPr/>
        </p:nvSpPr>
        <p:spPr>
          <a:xfrm>
            <a:off x="838080" y="5562720"/>
            <a:ext cx="3810240" cy="533160"/>
          </a:xfrm>
          <a:prstGeom prst="wedgeRectCallout">
            <a:avLst>
              <a:gd name="adj1" fmla="val 102291"/>
              <a:gd name="adj2" fmla="val -97319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066680" y="19051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1295280" y="1371600"/>
            <a:ext cx="7162920" cy="1447920"/>
          </a:xfrm>
          <a:prstGeom prst="wedgeRectCallout">
            <a:avLst>
              <a:gd name="adj1" fmla="val -28370"/>
              <a:gd name="adj2" fmla="val 113486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sts against Vietnam linked other social criticism—The “war abroad,” intensified a “war at hom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14"/>
          <p:cNvSpPr/>
          <p:nvPr/>
        </p:nvSpPr>
        <p:spPr>
          <a:xfrm>
            <a:off x="1447920" y="838080"/>
            <a:ext cx="7162560" cy="990720"/>
          </a:xfrm>
          <a:prstGeom prst="wedgeRectCallout">
            <a:avLst>
              <a:gd name="adj1" fmla="val -976"/>
              <a:gd name="adj2" fmla="val 175481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ixties generation was the best educated in American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vil Liber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vil liberties were protected for people accused of cri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ideon v Wainwright (196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all citizens, no matter the crime, have the right to an attorn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scobedo v Illinois (1964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citizens have the right to remain silent during interrogation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iranda v Arizona (1966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suspects must be told of their right against self-incr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unterculture &amp; “power protests” used similar metho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&amp; often-militant protest for civil &amp; economic righ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pride &amp;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protests would continue but would faced confrontation by the conservative politics of the 1970s &amp; 198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4"/>
          <p:cNvSpPr/>
          <p:nvPr/>
        </p:nvSpPr>
        <p:spPr>
          <a:xfrm>
            <a:off x="1447920" y="1676520"/>
            <a:ext cx="7086600" cy="990360"/>
          </a:xfrm>
          <a:prstGeom prst="wedgeRectCallout">
            <a:avLst>
              <a:gd name="adj1" fmla="val -10999"/>
              <a:gd name="adj2" fmla="val 14775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ack is Beautiful,” “Gay is Good,” &amp; “Sisterhood is Powerfu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tudent Revol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60912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dent protest movement began at UC-Berkeley in 1964 with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ee Spee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protested the “corporate face” &amp; “1950s rules” of UC-Berkel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rioted when denied a political voice on camp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nspired the formation of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tudents for a Democratic Socie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end racism, poverty, &amp; viol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066680" y="304920"/>
            <a:ext cx="7848720" cy="1066680"/>
          </a:xfrm>
          <a:prstGeom prst="wedgeRectCallout">
            <a:avLst>
              <a:gd name="adj1" fmla="val -25624"/>
              <a:gd name="adj2" fmla="val 25877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used to allow Free Speech movement to collect money for off-campus ca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io Savio &amp; the Free Speech rio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p-car-harawitz"/>
          <p:cNvPicPr/>
          <p:nvPr/>
        </p:nvPicPr>
        <p:blipFill>
          <a:blip r:embed="rId1"/>
          <a:stretch/>
        </p:blipFill>
        <p:spPr>
          <a:xfrm>
            <a:off x="4567320" y="762120"/>
            <a:ext cx="4576680" cy="609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Mario Savio in front of Sproul Hall, 1964, photo by Howard Harawitz jpg (24051 bytes)"/>
          <p:cNvPicPr/>
          <p:nvPr/>
        </p:nvPicPr>
        <p:blipFill>
          <a:blip r:embed="rId2"/>
          <a:stretch/>
        </p:blipFill>
        <p:spPr>
          <a:xfrm>
            <a:off x="0" y="2590920"/>
            <a:ext cx="4876920" cy="3147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fsm003"/>
          <p:cNvPicPr/>
          <p:nvPr/>
        </p:nvPicPr>
        <p:blipFill>
          <a:blip r:embed="rId3"/>
          <a:stretch/>
        </p:blipFill>
        <p:spPr>
          <a:xfrm>
            <a:off x="3200400" y="928800"/>
            <a:ext cx="5943600" cy="5929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Free Speech Movement"/>
          <p:cNvPicPr/>
          <p:nvPr/>
        </p:nvPicPr>
        <p:blipFill>
          <a:blip r:embed="rId4"/>
          <a:stretch/>
        </p:blipFill>
        <p:spPr>
          <a:xfrm>
            <a:off x="0" y="733320"/>
            <a:ext cx="9144000" cy="6124680"/>
          </a:xfrm>
          <a:prstGeom prst="rect">
            <a:avLst/>
          </a:prstGeom>
          <a:ln w="0">
            <a:noFill/>
          </a:ln>
        </p:spPr>
      </p:pic>
      <p:sp>
        <p:nvSpPr>
          <p:cNvPr id="568" name="AutoShape 15"/>
          <p:cNvSpPr/>
          <p:nvPr/>
        </p:nvSpPr>
        <p:spPr>
          <a:xfrm>
            <a:off x="1143000" y="990720"/>
            <a:ext cx="7315200" cy="1371600"/>
          </a:xfrm>
          <a:prstGeom prst="wedgeRectCallout">
            <a:avLst>
              <a:gd name="adj1" fmla="val -13847"/>
              <a:gd name="adj2" fmla="val 13194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rkeley protests &amp; University of Michigan-based SDS inspired riots on campuses across the U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6"/>
          <p:cNvSpPr/>
          <p:nvPr/>
        </p:nvSpPr>
        <p:spPr>
          <a:xfrm>
            <a:off x="380880" y="4800600"/>
            <a:ext cx="3581640" cy="1447920"/>
          </a:xfrm>
          <a:prstGeom prst="wedgeRectCallout">
            <a:avLst>
              <a:gd name="adj1" fmla="val 45657"/>
              <a:gd name="adj2" fmla="val -111953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own University ended required courses &amp; gr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17"/>
          <p:cNvSpPr/>
          <p:nvPr/>
        </p:nvSpPr>
        <p:spPr>
          <a:xfrm>
            <a:off x="4267080" y="4952880"/>
            <a:ext cx="4648320" cy="990720"/>
          </a:xfrm>
          <a:prstGeom prst="wedgeRectCallout">
            <a:avLst>
              <a:gd name="adj1" fmla="val -53143"/>
              <a:gd name="adj2" fmla="val -146796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colleges ende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“in loco parentis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ultural R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dent protests coincided with youth counter-culture in 196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ning in San Francisco &amp; spreading throughout the US, the “hippie” culture emphasiz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xual 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3"/>
          <p:cNvSpPr/>
          <p:nvPr/>
        </p:nvSpPr>
        <p:spPr>
          <a:xfrm>
            <a:off x="228600" y="609480"/>
            <a:ext cx="4495680" cy="990720"/>
          </a:xfrm>
          <a:prstGeom prst="wedgeRectCallout">
            <a:avLst>
              <a:gd name="adj1" fmla="val 4273"/>
              <a:gd name="adj2" fmla="val 309453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e in premarital sex &amp; use of the “pil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4"/>
          <p:cNvSpPr/>
          <p:nvPr/>
        </p:nvSpPr>
        <p:spPr>
          <a:xfrm>
            <a:off x="5029200" y="685800"/>
            <a:ext cx="3886200" cy="990720"/>
          </a:xfrm>
          <a:prstGeom prst="wedgeRectCallout">
            <a:avLst>
              <a:gd name="adj1" fmla="val -106824"/>
              <a:gd name="adj2" fmla="val 300481"/>
            </a:avLst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er of Love” in 196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15"/>
          <p:cNvSpPr/>
          <p:nvPr/>
        </p:nvSpPr>
        <p:spPr>
          <a:xfrm>
            <a:off x="304920" y="1981080"/>
            <a:ext cx="4495680" cy="990720"/>
          </a:xfrm>
          <a:prstGeom prst="wedgeRectCallout">
            <a:avLst>
              <a:gd name="adj1" fmla="val -1129"/>
              <a:gd name="adj2" fmla="val 30144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of psychoactive &amp; hallucinogenic 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4952880" y="1981080"/>
            <a:ext cx="3886200" cy="990720"/>
          </a:xfrm>
          <a:prstGeom prst="wedgeRectCallout">
            <a:avLst>
              <a:gd name="adj1" fmla="val -109560"/>
              <a:gd name="adj2" fmla="val 303527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must get stoned,” Bob Dy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17" descr="leary"/>
          <p:cNvPicPr/>
          <p:nvPr/>
        </p:nvPicPr>
        <p:blipFill>
          <a:blip r:embed="rId1"/>
          <a:stretch/>
        </p:blipFill>
        <p:spPr>
          <a:xfrm>
            <a:off x="3962520" y="3200400"/>
            <a:ext cx="4876560" cy="339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0" name="AutoShape 18"/>
          <p:cNvSpPr/>
          <p:nvPr/>
        </p:nvSpPr>
        <p:spPr>
          <a:xfrm>
            <a:off x="2209680" y="609480"/>
            <a:ext cx="6553440" cy="1447920"/>
          </a:xfrm>
          <a:prstGeom prst="wedgeRectCallout">
            <a:avLst>
              <a:gd name="adj1" fmla="val 15962"/>
              <a:gd name="adj2" fmla="val 159870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vard professor Timothy Leary: “Let’s all try LSD!!                     Tune in, turn on, &amp; drop out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19"/>
          <p:cNvSpPr/>
          <p:nvPr/>
        </p:nvSpPr>
        <p:spPr>
          <a:xfrm>
            <a:off x="5562720" y="4114800"/>
            <a:ext cx="2895480" cy="533520"/>
          </a:xfrm>
          <a:prstGeom prst="wedgeRectCallout">
            <a:avLst>
              <a:gd name="adj1" fmla="val -135800"/>
              <a:gd name="adj2" fmla="val 369046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lk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20"/>
          <p:cNvSpPr/>
          <p:nvPr/>
        </p:nvSpPr>
        <p:spPr>
          <a:xfrm>
            <a:off x="4952880" y="4876920"/>
            <a:ext cx="3810240" cy="990360"/>
          </a:xfrm>
          <a:prstGeom prst="wedgeRectCallout">
            <a:avLst>
              <a:gd name="adj1" fmla="val -97750"/>
              <a:gd name="adj2" fmla="val 107694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itish invasion &amp; electric roc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21"/>
          <p:cNvSpPr/>
          <p:nvPr/>
        </p:nvSpPr>
        <p:spPr>
          <a:xfrm>
            <a:off x="5562720" y="6095880"/>
            <a:ext cx="2895480" cy="533520"/>
          </a:xfrm>
          <a:prstGeom prst="wedgeRectCallout">
            <a:avLst>
              <a:gd name="adj1" fmla="val -133879"/>
              <a:gd name="adj2" fmla="val 27083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id r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22" descr="fash60s_46"/>
          <p:cNvPicPr/>
          <p:nvPr/>
        </p:nvPicPr>
        <p:blipFill>
          <a:blip r:embed="rId2"/>
          <a:srcRect l="0" t="0" r="0" b="5972"/>
          <a:stretch/>
        </p:blipFill>
        <p:spPr>
          <a:xfrm>
            <a:off x="5238720" y="1905120"/>
            <a:ext cx="352440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5" name="Picture 23" descr="makelove"/>
          <p:cNvPicPr/>
          <p:nvPr/>
        </p:nvPicPr>
        <p:blipFill>
          <a:blip r:embed="rId3"/>
          <a:srcRect l="0" t="0" r="0" b="6454"/>
          <a:stretch/>
        </p:blipFill>
        <p:spPr>
          <a:xfrm>
            <a:off x="5145120" y="2057400"/>
            <a:ext cx="346536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Joan Baez (diamonds &amp; rust)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Beatles Sgt Pepper.wav" descr=""/>
          <p:cNvPicPr/>
          <p:nvPr/>
        </p:nvPicPr>
        <p:blipFill>
          <a:blip r:embed="rId2"/>
          <a:stretch/>
        </p:blipFill>
        <p:spPr>
          <a:xfrm>
            <a:off x="85345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8" name="Grateful Dead Uncle John's Band.wav" descr=""/>
          <p:cNvPicPr/>
          <p:nvPr/>
        </p:nvPicPr>
        <p:blipFill>
          <a:blip r:embed="rId3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5" descr="1013"/>
          <p:cNvPicPr/>
          <p:nvPr/>
        </p:nvPicPr>
        <p:blipFill>
          <a:blip r:embed="rId4"/>
          <a:srcRect l="10003" t="3613" r="2500" b="36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1295280" y="5772240"/>
            <a:ext cx="6782040" cy="9716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sic was an important element to 1960s counter-cul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19" descr="&quot;Joan Baez and Bob Dylan, Rolling Stone no. 204, January 1976&quot; Photographic Print"/>
          <p:cNvPicPr/>
          <p:nvPr/>
        </p:nvPicPr>
        <p:blipFill>
          <a:blip r:embed="rId5"/>
          <a:stretch/>
        </p:blipFill>
        <p:spPr>
          <a:xfrm>
            <a:off x="5029200" y="228600"/>
            <a:ext cx="3889440" cy="54864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0"/>
          <p:cNvSpPr/>
          <p:nvPr/>
        </p:nvSpPr>
        <p:spPr>
          <a:xfrm>
            <a:off x="228600" y="1523880"/>
            <a:ext cx="4724280" cy="2288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lk singers like      Joan Baez &amp; Bob Dylan         (until Dylan discovered the electric guit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22" descr="beatlesUSE-798387"/>
          <p:cNvPicPr/>
          <p:nvPr/>
        </p:nvPicPr>
        <p:blipFill>
          <a:blip r:embed="rId6"/>
          <a:srcRect l="0" t="5358" r="0" b="3572"/>
          <a:stretch/>
        </p:blipFill>
        <p:spPr>
          <a:xfrm>
            <a:off x="4572000" y="0"/>
            <a:ext cx="4095720" cy="3886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4" name="Picture 24" descr="Beatles_abbey_road"/>
          <p:cNvPicPr/>
          <p:nvPr/>
        </p:nvPicPr>
        <p:blipFill>
          <a:blip r:embed="rId7"/>
          <a:srcRect l="0" t="35248" r="0" b="0"/>
          <a:stretch/>
        </p:blipFill>
        <p:spPr>
          <a:xfrm>
            <a:off x="4114800" y="3749760"/>
            <a:ext cx="4800600" cy="310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5" name="Text Box 25"/>
          <p:cNvSpPr/>
          <p:nvPr/>
        </p:nvSpPr>
        <p:spPr>
          <a:xfrm>
            <a:off x="380880" y="1981080"/>
            <a:ext cx="3581640" cy="9716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ic rock” like The Bea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icture 28" descr="the-grateful-dead-photo-4"/>
          <p:cNvPicPr/>
          <p:nvPr/>
        </p:nvPicPr>
        <p:blipFill>
          <a:blip r:embed="rId8"/>
          <a:stretch/>
        </p:blipFill>
        <p:spPr>
          <a:xfrm>
            <a:off x="4952880" y="76320"/>
            <a:ext cx="362124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7" name="Picture 30" descr="The Grateful Dead"/>
          <p:cNvPicPr/>
          <p:nvPr/>
        </p:nvPicPr>
        <p:blipFill>
          <a:blip r:embed="rId9"/>
          <a:stretch/>
        </p:blipFill>
        <p:spPr>
          <a:xfrm>
            <a:off x="4267080" y="3755880"/>
            <a:ext cx="4648320" cy="31021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31"/>
          <p:cNvSpPr/>
          <p:nvPr/>
        </p:nvSpPr>
        <p:spPr>
          <a:xfrm>
            <a:off x="380880" y="3124080"/>
            <a:ext cx="3581640" cy="971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id rock” like the Grateful D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32" descr="woodstock1"/>
          <p:cNvPicPr/>
          <p:nvPr/>
        </p:nvPicPr>
        <p:blipFill>
          <a:blip r:embed="rId10"/>
          <a:stretch/>
        </p:blipFill>
        <p:spPr>
          <a:xfrm>
            <a:off x="2514600" y="0"/>
            <a:ext cx="6629400" cy="6821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3" descr="Image:Woodstock post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5400" y="533520"/>
            <a:ext cx="40194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203" dur="41255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7304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8352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14" descr="hippies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5" descr="haight%20ashbury"/>
          <p:cNvPicPr/>
          <p:nvPr/>
        </p:nvPicPr>
        <p:blipFill>
          <a:blip r:embed="rId2"/>
          <a:stretch/>
        </p:blipFill>
        <p:spPr>
          <a:xfrm>
            <a:off x="609480" y="0"/>
            <a:ext cx="447048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joplin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2" descr="Flowerguy3"/>
          <p:cNvPicPr/>
          <p:nvPr/>
        </p:nvPicPr>
        <p:blipFill>
          <a:blip r:embed="rId1"/>
          <a:stretch/>
        </p:blipFill>
        <p:spPr>
          <a:xfrm>
            <a:off x="4343400" y="990720"/>
            <a:ext cx="4705200" cy="571500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13"/>
          <p:cNvSpPr/>
          <p:nvPr/>
        </p:nvSpPr>
        <p:spPr>
          <a:xfrm>
            <a:off x="838080" y="990720"/>
            <a:ext cx="1752840" cy="609480"/>
          </a:xfrm>
          <a:prstGeom prst="wedgeRectCallout">
            <a:avLst>
              <a:gd name="adj1" fmla="val 213949"/>
              <a:gd name="adj2" fmla="val 171092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914400" y="1752480"/>
            <a:ext cx="1752480" cy="609840"/>
          </a:xfrm>
          <a:prstGeom prst="wedgeRectCallout">
            <a:avLst>
              <a:gd name="adj1" fmla="val 210143"/>
              <a:gd name="adj2" fmla="val 71875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380880" y="2590920"/>
            <a:ext cx="2743200" cy="609480"/>
          </a:xfrm>
          <a:prstGeom prst="wedgeRectCallout">
            <a:avLst>
              <a:gd name="adj1" fmla="val 137675"/>
              <a:gd name="adj2" fmla="val -35675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ck ‘n’ Ro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1523880" y="76320"/>
            <a:ext cx="6629400" cy="7617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the nation’s youth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228600" y="4267080"/>
            <a:ext cx="3809880" cy="1447920"/>
          </a:xfrm>
          <a:prstGeom prst="wedgeRectCallout">
            <a:avLst>
              <a:gd name="adj1" fmla="val 92916"/>
              <a:gd name="adj2" fmla="val -13815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ly children from upper-middle class 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304920" y="3352680"/>
            <a:ext cx="3352680" cy="609840"/>
          </a:xfrm>
          <a:prstGeom prst="wedgeRectCallout">
            <a:avLst>
              <a:gd name="adj1" fmla="val 107861"/>
              <a:gd name="adj2" fmla="val -134375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work ethi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6T20:21:10Z</dcterms:created>
  <dc:creator>CMU</dc:creator>
  <dc:description/>
  <cp:keywords/>
  <dc:language>en-US</dc:language>
  <cp:lastModifiedBy>Sacerdote, Kevin R.</cp:lastModifiedBy>
  <dcterms:modified xsi:type="dcterms:W3CDTF">2016-03-17T11:13:40Z</dcterms:modified>
  <cp:revision>124</cp:revision>
  <dc:subject/>
  <dc:title>CHAPTER 32 A CRISIS IN CONFIDENCE, 1969-1980</dc:title>
</cp:coreProperties>
</file>